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50B5-9CD3-43BD-B0FA-A2B3C1ACF6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67B6-2C62-4F59-B879-D2B69640892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33F7-6963-4857-9ECC-6C2D52F8D5A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E47F-31C9-4F6D-BA70-2B862112C74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BD2F-4B3C-4E12-8E6B-B84839477AD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6A2E-5E21-40EB-AA72-234E55490627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272E-11FD-40F5-9D94-ED78475DFBB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4186-C633-4427-A291-B0C4136AD84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627F-86B0-4210-824C-5D3154B4525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21C0-430A-43D1-A534-B29E054096F7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F293-9614-49F7-864A-3887A118A48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E9DA-BA94-4A4E-A7C3-2B4C0A77896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4908-1BC4-41AD-AAB2-B3B6001B9E1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E9FB-3AFC-4B31-8D72-86967727608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4394-5B25-4930-8362-67A95074F7A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E3D6-67E9-4F82-87F5-A5C8E114F70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0E5E-9D35-4AA8-9382-34FCB76025E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F07-19BD-4738-A7E4-3633D496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CF7-9160-45DD-919D-57514289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E03-07B0-4ECE-8B78-007C1F1C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C4CE-640E-4B8F-90B0-2B9D12A4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A648-815F-44B2-9E22-FEE2832A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DBE1-D314-499E-BCC1-37659E5D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A9A8-1DA2-4718-AE1F-EA8EB399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F0E0-A0F9-48F1-B6E9-5B497742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00C4-CC20-41DB-B931-4518B2DD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0174-224F-464C-A2FB-A5B4A3CB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9AAD-1C74-4A13-9A47-54DBF3FB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00D-32AA-41B8-9BA4-4EEC81E0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38D5-A696-47D8-8354-068C50D6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A076-C80B-4EA2-861E-94E12A17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7231-EE88-4AC3-893B-9419FEAD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45A7-326B-4824-B96B-5D803E74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2867-28F5-4C0E-A26A-31EE9D5C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599-8CEB-4E72-B2FD-B147C99C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4AF-30F6-4561-A7A3-D4962278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352-4C3C-486F-A105-358AEFF9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47F-98D7-48B2-919B-730ADC93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ABB-6DB5-4860-AE63-19D26F28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7EA-C775-4E18-95D5-50104266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A2D-FE0E-4B2C-911B-C10123E0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9C6D-12FD-4434-BB6C-4D6B803FA4B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B506-A907-4E13-A7EB-2A99EA58781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Dirt, hygiene, defe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752480" y="0"/>
            <a:ext cx="5867640" cy="8839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193840" y="29908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m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7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8600" y="5867280"/>
            <a:ext cx="25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380880" y="11160"/>
            <a:ext cx="9905760" cy="683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97840" y="32400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t little baby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love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unknown person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cow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 (ctd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’s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do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child (Turkana exam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lusion: undesired intimacy (cf. sexual harassmen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rts of hygie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dic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us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esthetics, not microbes” (Kru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Why is study of defecation relevant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eryday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idden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ultu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ature / Nurture (“nature’s call”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oretical relevance (window on cultu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ation to health (regular, normal stoo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agnostic val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evance to public heal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otation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 …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derlying motivations for domestic hygiene … lie not in the avoidance of specific diseases, but in subtler social forc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d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hygiene is a complex idea that embodies a number of social values, clarity has often been missing, both in the understanding of how hygiene relates to health, and in the conception and execution of hygiene education programm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rt: disord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the evidence of the imperfections of life.” (MacLaughlin in Curtis 1998: 13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matter out of place.” (Douglas 1966) i.e. dirt is an invitation to restore order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thing is dirt by itself; its use and place make it dirty…. But what about (human) feces????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tter out of pla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ltural reasons (e.g. right/left hand, dress, spitting, grasshoppers, hand in food…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reasons: who does what to wh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understand the social dimension: let us take the example of defecation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975240" y="5451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57200" y="17136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71600" y="-685800"/>
            <a:ext cx="6338880" cy="8381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2286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eny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10058400" cy="690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050840" y="17604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pal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2:06:35Z</dcterms:created>
  <dc:creator>BU</dc:creator>
  <dc:description/>
  <dc:language>en-US</dc:language>
  <cp:lastModifiedBy>Owner</cp:lastModifiedBy>
  <dcterms:modified xsi:type="dcterms:W3CDTF">2013-11-18T12:50:44Z</dcterms:modified>
  <cp:revision>7</cp:revision>
  <dc:subject/>
  <dc:title>Dirt, hygiene, defecation</dc:title>
</cp:coreProperties>
</file>